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403-893C-4670-B7F0-DA2FA220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23C-CEBC-4D42-A803-B9BF6246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27F-7357-40A1-8F49-5BF852C7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E24-CBB4-49E5-86B5-1A199623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853C-0995-4F8B-92FF-87D3DE44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568-C8BD-412A-8127-2D6B04E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9A47-F9B8-4B8C-A8C5-CADAB380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F725-14D8-4158-90DD-2A12AA66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1C5-8DB1-4CCC-BEAE-CC8BE3A5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4751-A12F-47B9-BC5D-809B12D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224E-948E-4773-922A-A352B38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1CF-3F63-4359-B59A-A48ADB5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D713-EB9C-46C6-BF05-7563CB8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7EA7-17DA-4D72-BBF6-92B79DB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B76-C916-4A2F-8AD0-A0482E0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F722-70E8-491F-9DC9-E31A5F06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9C9-967C-4798-BE5F-1E0AF83C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0E73-9999-4A33-8BA8-DB6A51B5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6EC5-425F-4F98-B2C9-65ACB16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2C12-7F08-4B92-B4FA-2B86476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BA13-99C5-44F6-A42A-AA2E668E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C73F-F916-4C33-BC56-A7A212E9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905-E0A5-4E14-8D82-164CE363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B71F-9D3F-47F8-B442-7E63407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61B7-DB87-43D6-AAE4-79A59371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1123-EBBC-47E0-A439-CF2BECC1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9E6B-FDA7-4D9D-A73B-6B7C2040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41E7-0E88-49D0-82F6-39D4C7D0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BF8A-9F98-41AE-B548-FBFE96B5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4EA3-DD47-46E3-B223-5D4F8903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5CB-4DE8-4BDB-910D-15C93118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23C-45B7-445C-8A9F-71723350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C15-F09C-4B6F-9A60-1E97C6C3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EA9-39BE-4ABA-AF49-D5B35A1C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A3F-44C0-4085-B229-1F5B5A2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8CA-9D5F-49E2-B377-6692377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9BF5-62F5-46F8-BB58-933DEC642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8D4C-0E78-489C-931B-C038A0CD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90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93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95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6658-FE26-4B35-A869-0811BEB9BA3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6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Saisons et le Te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624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leu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’autom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57400" y="5867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en autom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_x0008_fall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478240" y="2017800"/>
            <a:ext cx="52671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En autom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b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qu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ple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_x0007_bon.jpg 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990720" y="1890720"/>
            <a:ext cx="3954240" cy="2108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_x000b_rainboy.jpg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1752480" y="4114800"/>
            <a:ext cx="23893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 autom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3" name="Picture 4" descr="&#13;ventnuage.jpg 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380880" y="2133720"/>
            <a:ext cx="3071880" cy="2251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3813480" y="220968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l fait du v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5" name="Picture 6" descr="_x0010_foggychinese.jpg                                               0002BBBE_x000c_Macintosh HD                   B6E9FBDF:"/>
          <p:cNvPicPr/>
          <p:nvPr/>
        </p:nvPicPr>
        <p:blipFill>
          <a:blip r:embed="rId2"/>
          <a:stretch/>
        </p:blipFill>
        <p:spPr>
          <a:xfrm>
            <a:off x="6095880" y="3276720"/>
            <a:ext cx="2301840" cy="3276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2351160" y="5425920"/>
            <a:ext cx="33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l fait du brouill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8" name="Picture 4" descr="_x000c_falltree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87880" y="2017800"/>
            <a:ext cx="35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0" name="Picture 3" descr="&#10;wint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06880" y="2017800"/>
            <a:ext cx="33620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2" name="Picture 3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438280" y="2017800"/>
            <a:ext cx="482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4" name="Picture 3" descr="_x000c_falltree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87880" y="2017800"/>
            <a:ext cx="35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6" name="Picture 5" descr="_x000b_spring2.jpg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41480" y="2017800"/>
            <a:ext cx="4075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8" name="Picture 5" descr="&#10;wint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06880" y="2017800"/>
            <a:ext cx="33620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0" name="Picture 3" descr="_x000b_spring2.jpg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41480" y="2017800"/>
            <a:ext cx="4075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Il y a quatre sais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Picture 4" descr="_x000c_4seasons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706840" y="2017800"/>
            <a:ext cx="416052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228600" y="2362320"/>
            <a:ext cx="2057400" cy="1019160"/>
          </a:xfrm>
          <a:prstGeom prst="rightArrow">
            <a:avLst>
              <a:gd name="adj1" fmla="val 49843"/>
              <a:gd name="adj2" fmla="val 464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été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6934320" y="2133720"/>
            <a:ext cx="1828800" cy="838080"/>
          </a:xfrm>
          <a:prstGeom prst="leftArrow">
            <a:avLst>
              <a:gd name="adj1" fmla="val 50000"/>
              <a:gd name="adj2" fmla="val 545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utom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04920" y="4495680"/>
            <a:ext cx="1828800" cy="943200"/>
          </a:xfrm>
          <a:prstGeom prst="rightArrow">
            <a:avLst>
              <a:gd name="adj1" fmla="val 50000"/>
              <a:gd name="adj2" fmla="val 484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intem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6858000" y="4419720"/>
            <a:ext cx="1828800" cy="942840"/>
          </a:xfrm>
          <a:prstGeom prst="leftArrow">
            <a:avLst>
              <a:gd name="adj1" fmla="val 50000"/>
              <a:gd name="adj2" fmla="val 484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hi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2" name="Picture 5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438280" y="2017800"/>
            <a:ext cx="482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4" name="Picture 4" descr="_x0007_bad.jpg 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987640" y="2017800"/>
            <a:ext cx="416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6" name="Picture 4" descr="_x0008_bon1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639880" y="2017800"/>
            <a:ext cx="48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8" name="Picture 5" descr="_x0010_foggychinese.jpg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3048120" y="1676520"/>
            <a:ext cx="34020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0" name="Picture 4" descr="_x000c_3seasons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541680" y="2017800"/>
            <a:ext cx="2656080" cy="48402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228600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477120" y="4038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6400800" y="571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6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Picture 4" descr="_x000f_coldsnowing.jpg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00440" y="2017800"/>
            <a:ext cx="453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7" name="Picture 5" descr="&#13;ventarbre.jpg 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2644920" y="2017800"/>
            <a:ext cx="484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9" name="Picture 4" descr="_x000c_raingirl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562200" y="2017800"/>
            <a:ext cx="30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1" name="Picture 4" descr="&#9;sunny.jpg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137040" y="2017800"/>
            <a:ext cx="38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3" name="Picture 5" descr="_x000c_foggyboy.jpg  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2455920" y="2017800"/>
            <a:ext cx="522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Il y a quatre sais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Picture 3" descr="_x000c_4seasons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706840" y="2017800"/>
            <a:ext cx="416052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8"/>
          <p:cNvSpPr/>
          <p:nvPr/>
        </p:nvSpPr>
        <p:spPr>
          <a:xfrm>
            <a:off x="990720" y="3048120"/>
            <a:ext cx="976320" cy="714240"/>
          </a:xfrm>
          <a:prstGeom prst="rightArrow">
            <a:avLst>
              <a:gd name="adj1" fmla="val 50000"/>
              <a:gd name="adj2" fmla="val 341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7086600" y="2819520"/>
            <a:ext cx="976320" cy="790560"/>
          </a:xfrm>
          <a:prstGeom prst="leftArrow">
            <a:avLst>
              <a:gd name="adj1" fmla="val 50000"/>
              <a:gd name="adj2" fmla="val 3087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143000" y="4952880"/>
            <a:ext cx="976320" cy="790560"/>
          </a:xfrm>
          <a:prstGeom prst="rightArrow">
            <a:avLst>
              <a:gd name="adj1" fmla="val 50000"/>
              <a:gd name="adj2" fmla="val 3087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7010280" y="4952880"/>
            <a:ext cx="976320" cy="838440"/>
          </a:xfrm>
          <a:prstGeom prst="leftArrow">
            <a:avLst>
              <a:gd name="adj1" fmla="val 50000"/>
              <a:gd name="adj2" fmla="val 2911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5" name="Picture 4" descr="&#10;window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95480" y="2209680"/>
            <a:ext cx="4572000" cy="42609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1981080" y="2286000"/>
            <a:ext cx="976320" cy="685800"/>
          </a:xfrm>
          <a:prstGeom prst="rightArrow">
            <a:avLst>
              <a:gd name="adj1" fmla="val 50000"/>
              <a:gd name="adj2" fmla="val 35591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5711760" y="2590920"/>
            <a:ext cx="978120" cy="635040"/>
          </a:xfrm>
          <a:prstGeom prst="leftArrow">
            <a:avLst>
              <a:gd name="adj1" fmla="val 50000"/>
              <a:gd name="adj2" fmla="val 38506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4419720" y="5334120"/>
            <a:ext cx="761760" cy="976320"/>
          </a:xfrm>
          <a:prstGeom prst="upArrow">
            <a:avLst>
              <a:gd name="adj1" fmla="val 50000"/>
              <a:gd name="adj2" fmla="val 32042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1" dur="1" fill="hold"/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0" name="Picture 4" descr="_x000b_snowing.jpg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685960" y="2017800"/>
            <a:ext cx="4359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2" name="Picture 5" descr="_x000e_ventgarcon.jpg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2014560" y="2017800"/>
            <a:ext cx="610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052800" y="1371600"/>
            <a:ext cx="338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nei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pleu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be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v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chau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froi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mauvai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brouill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5" name="Picture 4" descr="_x0008_cold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609480" y="2133720"/>
            <a:ext cx="129240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_x0007_bad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533520" y="3809880"/>
            <a:ext cx="1447560" cy="143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_x000b_rainboy.jpg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380880" y="5334120"/>
            <a:ext cx="1371600" cy="1336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&#9;sunny.jpg      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5029200" y="5486400"/>
            <a:ext cx="1287360" cy="137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_x000b_snowing.jpg 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7010280" y="3505320"/>
            <a:ext cx="1465560" cy="1523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_x0007_hot.jpg     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315200" y="5181480"/>
            <a:ext cx="1074600" cy="152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&#13;ventnuage.jpg                                                  0002BBBE_x000c_Macintosh HD                   B6E9FBDF:"/>
          <p:cNvPicPr/>
          <p:nvPr/>
        </p:nvPicPr>
        <p:blipFill>
          <a:blip r:embed="rId7"/>
          <a:stretch/>
        </p:blipFill>
        <p:spPr>
          <a:xfrm>
            <a:off x="2590920" y="5584680"/>
            <a:ext cx="1736640" cy="1273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_x0010_foggychinese.jpg                                               0002BBBE_x000c_Macintosh HD                   B6E9FBDF:"/>
          <p:cNvPicPr/>
          <p:nvPr/>
        </p:nvPicPr>
        <p:blipFill>
          <a:blip r:embed="rId8"/>
          <a:srcRect l="0" t="0" r="1419" b="0"/>
          <a:stretch/>
        </p:blipFill>
        <p:spPr>
          <a:xfrm>
            <a:off x="7315200" y="1066680"/>
            <a:ext cx="1425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052800" y="1371600"/>
            <a:ext cx="338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nei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pleu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be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v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chau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froi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mauvai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brouill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5" name="Picture 4" descr="_x0008_cold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609480" y="2133720"/>
            <a:ext cx="129240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_x0007_bad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533520" y="3809880"/>
            <a:ext cx="1447560" cy="1430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_x000b_rainboy.jpg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380880" y="5334120"/>
            <a:ext cx="1371600" cy="133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&#9;sunny.jpg      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5029200" y="5486400"/>
            <a:ext cx="1287360" cy="1371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_x000b_snowing.jpg 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7010280" y="3505320"/>
            <a:ext cx="1465560" cy="1523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_x0007_hot.jpg     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315200" y="5181480"/>
            <a:ext cx="1074600" cy="15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&#13;ventnuage.jpg                                                  0002BBBE_x000c_Macintosh HD                   B6E9FBDF:"/>
          <p:cNvPicPr/>
          <p:nvPr/>
        </p:nvPicPr>
        <p:blipFill>
          <a:blip r:embed="rId7"/>
          <a:stretch/>
        </p:blipFill>
        <p:spPr>
          <a:xfrm>
            <a:off x="2590920" y="5584680"/>
            <a:ext cx="1736640" cy="1273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_x0010_foggychinese.jpg                                               0002BBBE_x000c_Macintosh HD                   B6E9FBDF:"/>
          <p:cNvPicPr/>
          <p:nvPr/>
        </p:nvPicPr>
        <p:blipFill>
          <a:blip r:embed="rId8"/>
          <a:srcRect l="0" t="0" r="1419" b="0"/>
          <a:stretch/>
        </p:blipFill>
        <p:spPr>
          <a:xfrm>
            <a:off x="7315200" y="1066680"/>
            <a:ext cx="1425600" cy="2057400"/>
          </a:xfrm>
          <a:prstGeom prst="rect">
            <a:avLst/>
          </a:prstGeom>
          <a:ln w="0">
            <a:noFill/>
          </a:ln>
        </p:spPr>
      </p:pic>
      <p:sp>
        <p:nvSpPr>
          <p:cNvPr id="253" name="Line 12"/>
          <p:cNvSpPr/>
          <p:nvPr/>
        </p:nvSpPr>
        <p:spPr>
          <a:xfrm>
            <a:off x="4648320" y="1676520"/>
            <a:ext cx="2514600" cy="20574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1600200" y="2133720"/>
            <a:ext cx="1447920" cy="3276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5334120" y="3657600"/>
            <a:ext cx="2057400" cy="20574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 flipH="1" flipV="1">
            <a:off x="1600200" y="3047760"/>
            <a:ext cx="137160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 flipH="1">
            <a:off x="1600200" y="4572000"/>
            <a:ext cx="1371600" cy="763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 flipV="1">
            <a:off x="6324480" y="2438280"/>
            <a:ext cx="838440" cy="23623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Freeform 19"/>
          <p:cNvSpPr/>
          <p:nvPr/>
        </p:nvSpPr>
        <p:spPr>
          <a:xfrm>
            <a:off x="5181480" y="2666880"/>
            <a:ext cx="1257480" cy="32004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792" h="2024">
                <a:moveTo>
                  <a:pt x="0" y="0"/>
                </a:moveTo>
                <a:cubicBezTo>
                  <a:pt x="324" y="276"/>
                  <a:pt x="648" y="552"/>
                  <a:pt x="720" y="864"/>
                </a:cubicBezTo>
                <a:cubicBezTo>
                  <a:pt x="792" y="1176"/>
                  <a:pt x="480" y="1720"/>
                  <a:pt x="432" y="1872"/>
                </a:cubicBezTo>
                <a:cubicBezTo>
                  <a:pt x="384" y="2024"/>
                  <a:pt x="408" y="1900"/>
                  <a:pt x="432" y="17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2577960" y="3200400"/>
            <a:ext cx="470160" cy="2438280"/>
          </a:xfrm>
          <a:custGeom>
            <a:avLst/>
            <a:gdLst>
              <a:gd name="textAreaLeft" fmla="*/ 0 w 470160"/>
              <a:gd name="textAreaRight" fmla="*/ 470520 w 47016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96" h="1536">
                <a:moveTo>
                  <a:pt x="248" y="0"/>
                </a:moveTo>
                <a:cubicBezTo>
                  <a:pt x="124" y="496"/>
                  <a:pt x="0" y="992"/>
                  <a:pt x="8" y="1248"/>
                </a:cubicBezTo>
                <a:cubicBezTo>
                  <a:pt x="16" y="1504"/>
                  <a:pt x="156" y="1520"/>
                  <a:pt x="296" y="15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28600" y="762120"/>
            <a:ext cx="792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 _______ il fait _________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________ il _________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________il ________ quelquefois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         ________ il fait _______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62" name="Picture 3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838080" y="380880"/>
            <a:ext cx="1171800" cy="1100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_x0007_sun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7086600" y="228600"/>
            <a:ext cx="1488960" cy="1523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&#10;winter.jpg 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838080" y="175248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_x000f_coldsnowing.jpg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6248520" y="1828800"/>
            <a:ext cx="1330200" cy="120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_x000c_falltree.jpg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838080" y="342900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_x000c_raingirl.jpg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916760" y="3276720"/>
            <a:ext cx="1227240" cy="1676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&#10;spring.jpg                                                     0005D190_x000c_Macintosh HD                   B7464D7A:"/>
          <p:cNvPicPr/>
          <p:nvPr/>
        </p:nvPicPr>
        <p:blipFill>
          <a:blip r:embed="rId7"/>
          <a:stretch/>
        </p:blipFill>
        <p:spPr>
          <a:xfrm>
            <a:off x="838080" y="4724280"/>
            <a:ext cx="1005120" cy="1447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_x0007_bon.jpg                                                        0005D190_x000c_Macintosh HD                   B7464D7A:"/>
          <p:cNvPicPr/>
          <p:nvPr/>
        </p:nvPicPr>
        <p:blipFill>
          <a:blip r:embed="rId8"/>
          <a:stretch/>
        </p:blipFill>
        <p:spPr>
          <a:xfrm>
            <a:off x="6781680" y="5343480"/>
            <a:ext cx="22100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28600" y="762120"/>
            <a:ext cx="792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  été  il fait beau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  hiver  il neige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automne il pleut quelquefois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            printemps il fait bon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1" name="Picture 3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914400" y="380880"/>
            <a:ext cx="1171440" cy="1100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_x0007_sun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5715000" y="152280"/>
            <a:ext cx="1488960" cy="1524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&#10;winter.jpg 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990720" y="182880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_x000f_coldsnowing.jpg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4876920" y="1728720"/>
            <a:ext cx="1523880" cy="1382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_x000c_falltree.jpg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838080" y="342900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_x000c_raingirl.jpg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315200" y="3200400"/>
            <a:ext cx="122724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&#10;spring.jpg                                                     0005D190_x000c_Macintosh HD                   B7464D7A:"/>
          <p:cNvPicPr/>
          <p:nvPr/>
        </p:nvPicPr>
        <p:blipFill>
          <a:blip r:embed="rId7"/>
          <a:stretch/>
        </p:blipFill>
        <p:spPr>
          <a:xfrm>
            <a:off x="990720" y="4800600"/>
            <a:ext cx="1004760" cy="1447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_x0007_bon.jpg                                                        0005D190_x000c_Macintosh HD                   B7464D7A:"/>
          <p:cNvPicPr/>
          <p:nvPr/>
        </p:nvPicPr>
        <p:blipFill>
          <a:blip r:embed="rId8"/>
          <a:stretch/>
        </p:blipFill>
        <p:spPr>
          <a:xfrm>
            <a:off x="6019920" y="5105520"/>
            <a:ext cx="220968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’é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5862240"/>
            <a:ext cx="77724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en é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544920" y="2017800"/>
            <a:ext cx="3532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En é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bea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cha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_x0007_sun.jpg 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119320" y="2017800"/>
            <a:ext cx="19368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_x0007_hot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2387520" y="4151160"/>
            <a:ext cx="1398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’hiv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90920" y="5867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en h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&#10;wint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4154400" y="2017800"/>
            <a:ext cx="2529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En hiv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49896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fait mauv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fait fr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 quelquefois il nei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&#10;badman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6022800" y="2017800"/>
            <a:ext cx="205272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_x0008_cold.jpg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6208560" y="4151160"/>
            <a:ext cx="1681200" cy="198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_x000b_snowing.jpg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2666880" y="5029200"/>
            <a:ext cx="175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e printem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400" y="5867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a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rintem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&#10;spring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139920" y="2017800"/>
            <a:ext cx="26146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Au printem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b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qu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ple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_x0008_bon1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1752480" y="1878120"/>
            <a:ext cx="2503440" cy="21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_x0008_rain.jpg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2004840" y="4151160"/>
            <a:ext cx="188604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2:41:04Z</dcterms:created>
  <dc:creator>Sandra Howard</dc:creator>
  <dc:description/>
  <dc:language>en-US</dc:language>
  <cp:lastModifiedBy>melina.morin</cp:lastModifiedBy>
  <cp:lastPrinted>2003-10-02T17:03:30Z</cp:lastPrinted>
  <dcterms:modified xsi:type="dcterms:W3CDTF">2011-08-31T17:26:05Z</dcterms:modified>
  <cp:revision>29</cp:revision>
  <dc:subject/>
  <dc:title>Les Saisons et le Temps</dc:title>
</cp:coreProperties>
</file>